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EAC6-C82B-468D-91D7-DF024D4F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3695-E94D-4056-B547-06665A78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FD55-AEDB-4234-AF89-0AA5523B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60CC-D9E2-4463-A1BB-4D097D40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B545-7BFC-4D06-AF6C-3950D0CD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819E-7AA2-4BE7-9331-C663E66E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0F1E-3F93-4EBE-857E-84B873EE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A941-F315-4819-AD58-2424386B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22CA-1DDB-45AB-AA71-6AAD32FE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DBA9-4253-43FF-B8A5-FD57D24C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9E49-253D-4C9C-9972-395736A2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E915-2D4B-4CF4-8096-B319D52F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2DBF-47B9-4900-B59E-93055C4FD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y Unterhalt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hreibt eine “Handy” Unterhaltu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hello and introduce yourself (b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ite (using ein*laden) the person on the other end to go somewhere with you using our “in” vocabul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 both a time (NOT ON THE HOUR), a day of the week and a pl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ine the invitation and suggest an alternate time or day of the we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 to that sug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icht or kei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w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form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b*hol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t*geh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*fa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of you must say goodb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numbers must be written out as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 hand this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d it for th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 ideas:  Use wo, a date, anrufen vocab or grammar from another chapter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1349280"/>
            <a:ext cx="9102600" cy="52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en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omplete.  Missing the majority of the requirement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mewhat incomplete.  Missing many requirements and had many irrelevant detail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rgely complete.  Was missing one or two requirements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rehensibilit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omprehensi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nguage is difficult to underst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ppropriate language.  Clearly conveys the main 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urac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orrect or incomplete sentences.  Usage problems significantly distort messag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ny incorrect required elements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stly correct.  All sentences were complete, but there were minor problems with vocabulary or spelling.  (minor errors in required element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stly correct.  Very few or no problems with grammar and spelling.  (No errors in required element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ffo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oes not meet requir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ets requirements,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nt above and beyond what was expected in terms of content and creativ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sentation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ject  was sloppy or had crossed out word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ll organized.  Easily readabl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OK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LUENCY – ARE YOU SPEAKING SMOOTHLY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     Uneven, long pauses, incomplete phrases and sentenc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     Some hesitation, but thoughts are complete phrased and intoned proper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     Very few pauses or very little stumbling over words, sounds close to  a native speaker’s language for this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NUNCIATION – ARE YOU PRONOUNCING “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AUF DEUTSC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”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     Mispronunciation frequently makes it difficult to understan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     Sometimes pronunciation makes it hard to understand. Only a sympathetic listener would understand yo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     Not perfect, but does not interfere with understand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     Intonation really helps understanding of listen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7620120" y="476712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0" y="0"/>
            <a:ext cx="910260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______________________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____/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____/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Introduction____/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____/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ladung/Invitation ______/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______/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______/3 (1 for spelling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y of week _______/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ine ____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suggestion  ______/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 _____/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ht/kein ____/2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ht/kein ____/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holen/mitgehen/anfangen ________/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gern _______/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bye _____/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bye _____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7924680" y="133524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/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590920" y="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15 690-138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only get one chanc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the phone quickly back and f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use speaker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 a mess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LINE YOUR REQUIREMENTS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9:07:17Z</dcterms:created>
  <dc:creator>udsd</dc:creator>
  <dc:description/>
  <dc:language>en-US</dc:language>
  <cp:lastModifiedBy>tmsadmin</cp:lastModifiedBy>
  <dcterms:modified xsi:type="dcterms:W3CDTF">2013-12-11T17:22:12Z</dcterms:modified>
  <cp:revision>20</cp:revision>
  <dc:subject/>
  <dc:title>Handy Unterhaltung</dc:title>
</cp:coreProperties>
</file>